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DD8-7626-49B5-BB0D-587C9E94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DCD-2A90-42BB-AD94-D5B524B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99E-A3EA-4A50-80AE-8FCF2866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7F8-51D1-4419-A894-F6EB5EF4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BD8-673B-4B93-80C5-B02276B3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226-375B-4AF1-86FE-CD00A62A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D96-60C2-4E3F-BE3C-A1C78399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3C7-A54F-4C4B-A6AC-8F180282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81D-9809-491A-B23C-7A5FC2B2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2A7-74CB-4172-9419-F8E9C3F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684-7E94-4325-9FBE-B75CE3B9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41B-6B65-4A22-9B5D-EA8276EE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C844-1267-48C1-9C53-EF66D68F8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Heather\AppData\Local\Microsoft\Windows\Temporary Internet Files\Content.IE5\7KZXK14W\MCj0339260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4714920" cy="4724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5257440"/>
            <a:ext cx="876312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br>
              <a:rPr sz="5400"/>
            </a:b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hat goes into my science notebook…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:\Users\Heather\AppData\Local\Microsoft\Windows\Temporary Internet Files\Content.IE5\K425DTZ4\MCj03656220000[1].wmf"/>
          <p:cNvPicPr/>
          <p:nvPr/>
        </p:nvPicPr>
        <p:blipFill>
          <a:blip r:embed="rId2"/>
          <a:stretch/>
        </p:blipFill>
        <p:spPr>
          <a:xfrm>
            <a:off x="5867280" y="1600200"/>
            <a:ext cx="237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k a 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wondering about (ques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ke a hypothesi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to a prediction, a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ut what you think will happen.  You are trying to prove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redi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duct an experiment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you are going to do to fi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to your question (prode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llect 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what you notice while doing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 (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nalyze informa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ing at your data and deciding what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 (conclusion or questions Mrs. Nellett gives you to ans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port Result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ing what you learned (conclu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tific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es the amount of soap in a solution affec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a bubble will la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hink if you add more soap it will make a heav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 and the bubble will not last a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raws (no sharing), stop watch, 6 inch plastic plate,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ups of solution (marked 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i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1.  Pour a small amount of solution onto the plat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a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lace the straw just above the surface at an angle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ently blow until the bubble fills the indented part of the 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art the timer when the bubble reaches the appropri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ize.  Stop the timer when it pops.  Record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peat, completing 3 trials for each solution, taking 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cord the time your bubble l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You can also write other things you notice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5120" y="1676520"/>
          <a:ext cx="5486400" cy="2971800"/>
        </p:xfrm>
        <a:graphic>
          <a:graphicData uri="http://schemas.openxmlformats.org/drawingml/2006/table">
            <a:tbl>
              <a:tblPr/>
              <a:tblGrid>
                <a:gridCol w="1795320"/>
                <a:gridCol w="1230480"/>
                <a:gridCol w="1230120"/>
                <a:gridCol w="1230480"/>
              </a:tblGrid>
              <a:tr h="490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Trial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143000" y="990720"/>
            <a:ext cx="7848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 Question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ow would you describe the bubble sk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is inside the bub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manipulated/independent variable (the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were testing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as our responding/dependent variable (the one w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easured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dding more soap always produces longer-lasting bubbles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gree or disagree? 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wondering now?  If you had to do a simi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xperiment, what would you like to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aper template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1219320" y="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: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143000" y="990720"/>
            <a:ext cx="8001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es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tested the amount of soap.  What variable are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oing to test n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terials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 you need any extra materials?  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edict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o you think will ha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cedure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are you going to do to find out if you are r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r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OP!  Your procedure must be approved BEFORE you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fin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did you learn?  What could have affected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esults?  What could you have maybe done differently?  W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re you wondering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447920" y="457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YO Bubble B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54:22Z</dcterms:created>
  <dc:creator>Summer Keller</dc:creator>
  <dc:description/>
  <dc:language>en-US</dc:language>
  <cp:lastModifiedBy>Heather</cp:lastModifiedBy>
  <dcterms:modified xsi:type="dcterms:W3CDTF">2009-10-11T18:06:15Z</dcterms:modified>
  <cp:revision>73</cp:revision>
  <dc:subject/>
  <dc:title>Magnetism &amp; Electricity</dc:title>
</cp:coreProperties>
</file>