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171-5C65-4621-A943-B02BD4B0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876-83CB-4CCC-AA81-62F0358A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C5B-9C76-4193-AEEB-5285A04E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D27-DC29-4A6A-BEB3-B87141C3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02F-EDF5-4BD7-8D5A-859E6DDA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C94-6D94-4A5D-8FC7-1C5C41AA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1E2-CD40-4D47-8FFC-625287A2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CF4-6630-45E6-A70E-659EA7B6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03F-EA4A-44DB-A2D2-10255F55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9B5-B474-4795-9B60-D9D5CA38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B8A-735E-4F8C-90C4-240CF93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E06-CBB8-4EC0-9B6E-B7A1CA5E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73E-7E37-4011-AD0D-278614CB0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Heather\AppData\Local\Microsoft\Windows\Temporary Internet Files\Content.IE5\7KZXK14W\MCj0339260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471492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76312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br>
              <a:rPr sz="5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hat goes into my science notebook…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Users\Heather\AppData\Local\Microsoft\Windows\Temporary Internet Files\Content.IE5\K425DTZ4\MCj03656220000[1].wmf"/>
          <p:cNvPicPr/>
          <p:nvPr/>
        </p:nvPicPr>
        <p:blipFill>
          <a:blip r:embed="rId2"/>
          <a:stretch/>
        </p:blipFill>
        <p:spPr>
          <a:xfrm>
            <a:off x="5867280" y="1600200"/>
            <a:ext cx="237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wondering about (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ke a hypothesi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a prediction, a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what you think will happen.  You are trying to prov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ct an experiment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going to do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o your question (prod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llect 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at you notice while doing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alyze informa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ing at your data and deciding what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 (conclusion or questions Mrs. Nellett gives you to ans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ort Result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ing what you learned (concl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amount of soap in a solution affec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 bubble will l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hink if you add more soap it will make a heav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 and the bubble will not last a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raws (no sharing), stop watch, 6 inch plastic plate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ps of solution (marked 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1.  Pour a small amount of solution onto the pl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lace the straw just above the surface at an angl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ntly blow until the bubble fills the indented part of th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art the timer when the bubble reaches the appropr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.  Stop the timer when it pops.  Recor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peat, completing 3 trials for each solution, taking 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cord the time your bubble 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You can also write other things you notice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5120" y="1676520"/>
          <a:ext cx="5486400" cy="2971800"/>
        </p:xfrm>
        <a:graphic>
          <a:graphicData uri="http://schemas.openxmlformats.org/drawingml/2006/table">
            <a:tbl>
              <a:tblPr/>
              <a:tblGrid>
                <a:gridCol w="1795320"/>
                <a:gridCol w="1230480"/>
                <a:gridCol w="1230120"/>
                <a:gridCol w="1230480"/>
              </a:tblGrid>
              <a:tr h="490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 Question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ow would you describe the bubble sk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is inside the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manipulated/independent variable (th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were test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responding/dependent variable (the one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asur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ding more soap always produces longer-lasting bubbles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e or disagree? 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wondering now?  If you had to do a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eriment, what would you like to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tested the amount of soap.  What variable a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oing to test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 you need any extra materials?  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o you think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going to do to find out if you ar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OP!  Your procedure must be approved BEFORE you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learn?  What could have affected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ults?  What could you have maybe done differently?  W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e you wondering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O 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54:22Z</dcterms:created>
  <dc:creator>Summer Keller</dc:creator>
  <dc:description/>
  <dc:language>en-US</dc:language>
  <cp:lastModifiedBy>Heather</cp:lastModifiedBy>
  <dcterms:modified xsi:type="dcterms:W3CDTF">2009-10-11T18:06:15Z</dcterms:modified>
  <cp:revision>73</cp:revision>
  <dc:subject/>
  <dc:title>Magnetism &amp; Electricity</dc:title>
</cp:coreProperties>
</file>