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008813" cy="9288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F307-F77F-4F0D-9A58-A9F635722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3039-0C6F-459C-91C6-E302A8E4C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DD4E-DE04-48E6-BDC9-1B3AF96F3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C3B3-FE66-48D3-9476-E853AA9A7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4CA7-3A2F-44A6-8530-7A408A09C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9285-658C-4CD2-9A63-E01A02022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36C9-46A4-4D5E-833E-A4A484D53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2DEB-84C6-42BA-8ADD-53F59DA0C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AD97-0BF1-406A-82D0-D7F3BBC8E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D7A5-E0A4-4483-834E-BFEB953E9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4D46-13DF-48C1-B2BE-80BBA1A4E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B23C-18BB-42AD-BE22-4629B96F3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14A4C-7352-4EED-8773-C797C125AF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C:\Users\Heather\AppData\Local\Microsoft\Windows\Temporary Internet Files\Content.IE5\7KZXK14W\MCj03392600000[1].wmf"/>
          <p:cNvPicPr/>
          <p:nvPr/>
        </p:nvPicPr>
        <p:blipFill>
          <a:blip r:embed="rId1"/>
          <a:stretch/>
        </p:blipFill>
        <p:spPr>
          <a:xfrm>
            <a:off x="457200" y="228600"/>
            <a:ext cx="4714920" cy="4724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5257440"/>
            <a:ext cx="8763120" cy="137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SCIENTIFIC METHOD</a:t>
            </a:r>
            <a:br>
              <a:rPr sz="5400"/>
            </a:b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What goes into my science notebook…</a:t>
            </a:r>
            <a:br>
              <a:rPr sz="5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C:\Users\Heather\AppData\Local\Microsoft\Windows\Temporary Internet Files\Content.IE5\K425DTZ4\MCj03656220000[1].wmf"/>
          <p:cNvPicPr/>
          <p:nvPr/>
        </p:nvPicPr>
        <p:blipFill>
          <a:blip r:embed="rId2"/>
          <a:stretch/>
        </p:blipFill>
        <p:spPr>
          <a:xfrm>
            <a:off x="5867280" y="1600200"/>
            <a:ext cx="23734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paper template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5"/>
          <p:cNvSpPr/>
          <p:nvPr/>
        </p:nvSpPr>
        <p:spPr>
          <a:xfrm>
            <a:off x="1219320" y="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Date: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1143000" y="990720"/>
            <a:ext cx="784872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sk a question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at you are wondering about (ques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Make a hypothesis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milar to a prediction, a stat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bout what you think will happen.  You are trying to prove 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predi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Conduct an experiment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at you are going to do to find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swer to your question (prodecu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Collect data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s is what you notice while doing yo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periment (da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nalyze information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oking at your data and deciding what 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eans (conclusion or questions Mrs. Nellett gives you to answ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Report Results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elling what you learned (conclus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1447920" y="4572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cientific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paper template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5"/>
          <p:cNvSpPr/>
          <p:nvPr/>
        </p:nvSpPr>
        <p:spPr>
          <a:xfrm>
            <a:off x="1219320" y="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Date: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1143000" y="990720"/>
            <a:ext cx="800100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Question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ow does the amount of soap in a solution affect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ime a bubble will las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Prediction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 think if you add more soap it will make a heavi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lution and the bubble will not last as lo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Comic Sans MS"/>
              </a:rPr>
              <a:t>Materials</a:t>
            </a:r>
            <a:r>
              <a:rPr b="0" i="1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straws (no sharing), stop watch, 6 inch plastic plate, 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cups of solution (marked A, B, C, 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Comic Sans MS"/>
              </a:rPr>
              <a:t>Procedure</a:t>
            </a:r>
            <a:r>
              <a:rPr b="0" i="1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1.  Pour a small amount of solution onto the plate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coat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Place the straw just above the surface at an angle,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gently blow until the bubble fills the indented part of the pl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Start the timer when the bubble reaches the appropri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size.  Stop the timer when it pops.  Record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Repeat, completing 3 trials for each solution, taking tur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1447920" y="4572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ubble Bu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paper template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1219320" y="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Date: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1143000" y="990720"/>
            <a:ext cx="784872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Data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Record the time your bubble la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You can also write other things you notice in this s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1447920" y="4572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ubble Bu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905120" y="1676520"/>
          <a:ext cx="5486400" cy="2971800"/>
        </p:xfrm>
        <a:graphic>
          <a:graphicData uri="http://schemas.openxmlformats.org/drawingml/2006/table">
            <a:tbl>
              <a:tblPr/>
              <a:tblGrid>
                <a:gridCol w="1795320"/>
                <a:gridCol w="1230480"/>
                <a:gridCol w="1230120"/>
                <a:gridCol w="1230480"/>
              </a:tblGrid>
              <a:tr h="490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T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Trial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Trial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Trial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ution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ution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ution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ution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paper template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5"/>
          <p:cNvSpPr/>
          <p:nvPr/>
        </p:nvSpPr>
        <p:spPr>
          <a:xfrm>
            <a:off x="1219320" y="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Date: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1143000" y="990720"/>
            <a:ext cx="784872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Conclusion Questions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How would you describe the bubble ski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hat is inside the bubb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hat was our manipulated/independent variable (the o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were testing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hat was our responding/dependent variable (the one w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measured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Adding more soap always produces longer-lasting bubbles.”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Agree or disagree?  Expl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6.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hat are you wondering now?  If you had to do a simil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experiment, what would you like to find ou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1447920" y="4572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ubble Bu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paper template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5"/>
          <p:cNvSpPr/>
          <p:nvPr/>
        </p:nvSpPr>
        <p:spPr>
          <a:xfrm>
            <a:off x="1219320" y="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Date: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1143000" y="990720"/>
            <a:ext cx="800100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Question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tested the amount of soap.  What variable are yo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going to test nex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Materials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Do you need any extra materials?  What are the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Prediction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hat do you think will happ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Procedure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hat are you going to do to find out if you are righ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or no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STOP!  Your procedure must be approved BEFORE you test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Data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hat did you find ou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Conclusion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hat did you learn?  What could have affected yo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results?  What could you have maybe done differently?  Wh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are you wondering n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1447920" y="4572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YO Bubble Bu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02:54:22Z</dcterms:created>
  <dc:creator>Summer Keller</dc:creator>
  <dc:description/>
  <dc:language>en-US</dc:language>
  <cp:lastModifiedBy>Heather</cp:lastModifiedBy>
  <dcterms:modified xsi:type="dcterms:W3CDTF">2009-10-11T18:06:15Z</dcterms:modified>
  <cp:revision>73</cp:revision>
  <dc:subject/>
  <dc:title>Magnetism &amp; Electricity</dc:title>
</cp:coreProperties>
</file>