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4AB-C3ED-427A-B7D9-770729B7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3BF-85C6-414A-A73D-0308CBAD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BE1-8E4E-4F0D-9F2B-259CA33E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E1D-87D8-425F-808B-825FFA44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A22-A446-4348-A923-72A84920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F83-7E13-49AB-99C9-506C43EB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ED4-9FFB-450A-9184-97DFB8D0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85D-E436-4CB0-AF70-B0F55EE9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A4F-0BC3-4648-B8AF-8B60EE23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2D1-F8A4-4A43-9C02-2AA49737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C40-8EAE-4758-B9F5-34A2820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FD5-D993-4A8C-8A84-C8C574B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1188-B32E-4032-A5D2-412CB79B0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Heather\AppData\Local\Microsoft\Windows\Temporary Internet Files\Content.IE5\7KZXK14W\MCj0339260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4714920" cy="4724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876312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br>
              <a:rPr sz="5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hat goes into my science notebook…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:\Users\Heather\AppData\Local\Microsoft\Windows\Temporary Internet Files\Content.IE5\K425DTZ4\MCj03656220000[1].wmf"/>
          <p:cNvPicPr/>
          <p:nvPr/>
        </p:nvPicPr>
        <p:blipFill>
          <a:blip r:embed="rId2"/>
          <a:stretch/>
        </p:blipFill>
        <p:spPr>
          <a:xfrm>
            <a:off x="5867280" y="1600200"/>
            <a:ext cx="237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k a 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wondering about (qu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ke a hypothesi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a prediction, a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what you think will happen.  You are trying to prove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red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duct an experiment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going to do to fi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o your question (prode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llect 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what you notice while doing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nalyze informa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ing at your data and deciding what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 (conclusion or questions Mrs. Nellett gives you to ans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port Result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ing what you learned (conclu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the amount of soap in a solution affec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a bubble will l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hink if you add more soap it will make a heav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 and the bubble will not last a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raws (no sharing), stop watch, 6 inch plastic plate,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ups of solution (marked 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1.  Pour a small amount of solution onto the plat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a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lace the straw just above the surface at an angle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ently blow until the bubble fills the indented part of th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art the timer when the bubble reaches the appropr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ize.  Stop the timer when it pops.  Record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peat, completing 3 trials for each solution, taking 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cord the time your bubble 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You can also write other things you notice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5120" y="1676520"/>
          <a:ext cx="5486400" cy="2971800"/>
        </p:xfrm>
        <a:graphic>
          <a:graphicData uri="http://schemas.openxmlformats.org/drawingml/2006/table">
            <a:tbl>
              <a:tblPr/>
              <a:tblGrid>
                <a:gridCol w="1795320"/>
                <a:gridCol w="1230480"/>
                <a:gridCol w="1230120"/>
                <a:gridCol w="1230480"/>
              </a:tblGrid>
              <a:tr h="490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 Question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ow would you describe the bubble sk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is inside the bub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manipulated/independent variable (the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were testing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responding/dependent variable (the one 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asure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dding more soap always produces longer-lasting bubbles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gree or disagree? 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wondering now?  If you had to do a sim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periment, what would you like to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tested the amount of soap.  What variable are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oing to test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 you need any extra materials?  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o you think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going to do to find out if you ar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r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OP!  Your procedure must be approved BEFORE you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learn?  What could have affected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sults?  What could you have maybe done differently?  W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e you wondering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O 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54:22Z</dcterms:created>
  <dc:creator>Summer Keller</dc:creator>
  <dc:description/>
  <dc:language>en-US</dc:language>
  <cp:lastModifiedBy>Heather</cp:lastModifiedBy>
  <dcterms:modified xsi:type="dcterms:W3CDTF">2009-10-11T18:06:15Z</dcterms:modified>
  <cp:revision>73</cp:revision>
  <dc:subject/>
  <dc:title>Magnetism &amp; Electricity</dc:title>
</cp:coreProperties>
</file>