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310F5-6005-4653-A7F9-91AFDCA4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DA50-6846-402B-9482-BE47E9A3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02B87-62BA-42F5-8179-C89CBBFB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B9114-A222-4376-9D38-CFC77938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1162-2309-4CFC-B528-02EA7B16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20F1-B2A2-46EC-ADA6-5C97B163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75F9-79BA-46F3-8A1C-648FA8A4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9C39-9815-4BF2-BD89-5B7484FB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97D8-0DFE-460B-BD2C-921A0256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9A42-B7FF-43D7-A83D-6C682A0B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B0A0-1EFC-4E2D-BF35-F2CAE11F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37BC-6A9D-4F6B-A54A-39AE1896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A5F7-61C6-4231-B24A-A5ED153C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CA60-8B9D-406F-AB96-CEF24508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0DD4-E081-4568-A603-D1B1D9B3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7FF0-50DA-456B-8EA6-94AEAB72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26A3-24FA-41FF-90E3-620DDC65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1A8F9-DBDB-4378-94FD-B0EC2043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ABC7F-5358-401B-921A-C01EF2DF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981AE-6FF6-4560-B808-2A9DCB8E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0CFEC-FF12-41C6-94EA-D57E6463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68EB2-2090-4A29-B222-8F181DF3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CFE0C-07BB-42E2-BF7B-A31672CB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E369-D6CF-4266-9150-3394E173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A74C-E167-4BAA-8B34-481D53027D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B219-E1AA-4D4C-B1AF-75BA93BFB3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jsc.nasa.gov/Bios/portraits/ochoa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9CC8-204B-46BB-BE3D-4A59471CDB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55640" y="1052640"/>
            <a:ext cx="6135480" cy="34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Arial"/>
              </a:rPr>
              <a:t>What does a scientist look like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5FA8-4C56-4E24-AF7D-8DEFEB6B2E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phen Haw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tor neurone 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a motorized wheelchair, and a computerized speech-synthesiz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d several theories about the nature and origins of our univer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Stephen B. Hawings"/>
          <p:cNvPicPr/>
          <p:nvPr/>
        </p:nvPicPr>
        <p:blipFill>
          <a:blip r:embed="rId1"/>
          <a:stretch/>
        </p:blipFill>
        <p:spPr>
          <a:xfrm>
            <a:off x="1763640" y="1989000"/>
            <a:ext cx="3095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6F66-956C-4DC5-B979-2BC8297C5B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len Ocho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ronaut – First Hispanic-American Woman in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8" descr="Ellen Ochoa, NASA Photo JSC2002E081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989000"/>
            <a:ext cx="2879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3996-2C13-4258-AB66-26CFACD5F6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bert Eins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erger’s Syndrome (a type of autis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ory of Rela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8" descr="Einstein"/>
          <p:cNvPicPr/>
          <p:nvPr/>
        </p:nvPicPr>
        <p:blipFill>
          <a:blip r:embed="rId1"/>
          <a:stretch/>
        </p:blipFill>
        <p:spPr>
          <a:xfrm>
            <a:off x="1692360" y="2060640"/>
            <a:ext cx="3384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2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98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C712-3FB2-44B1-8EAC-238E73A70B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cientist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Mae Jemison, degree in chemical engineering and Doctor of Medic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African-American woman to enter sp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w up in Chicag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8" descr="Astronaut Mae Jemison"/>
          <p:cNvPicPr/>
          <p:nvPr/>
        </p:nvPicPr>
        <p:blipFill>
          <a:blip r:embed="rId1"/>
          <a:stretch/>
        </p:blipFill>
        <p:spPr>
          <a:xfrm>
            <a:off x="1692360" y="198900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DB93-7084-481C-97B6-AA3A4C17F1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676160" y="1981080"/>
            <a:ext cx="23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n Fossey as a young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8" descr="dianfossey"/>
          <p:cNvPicPr/>
          <p:nvPr/>
        </p:nvPicPr>
        <p:blipFill>
          <a:blip r:embed="rId1"/>
          <a:stretch/>
        </p:blipFill>
        <p:spPr>
          <a:xfrm>
            <a:off x="1692360" y="2060640"/>
            <a:ext cx="2374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7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7639-3479-4B3F-ACD3-1FD6C5D731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n Fossey as an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 researcher and anthropologi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breaking work with Mountain Gorillas of Afric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gorilla"/>
          <p:cNvPicPr/>
          <p:nvPr/>
        </p:nvPicPr>
        <p:blipFill>
          <a:blip r:embed="rId1"/>
          <a:stretch/>
        </p:blipFill>
        <p:spPr>
          <a:xfrm>
            <a:off x="1692360" y="1989000"/>
            <a:ext cx="31669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BB13-62A3-45C0-A0CA-76EF58D912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yone Can Be a Scientis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it be you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9" descr="question-mark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4104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0"/>
          <p:cNvSpPr/>
          <p:nvPr/>
        </p:nvSpPr>
        <p:spPr>
          <a:xfrm>
            <a:off x="5651640" y="6381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d by: E. Kovac,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1A90-57C8-4290-9683-BFAC4F0E75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leads you to believe that this man may be a scienti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8" descr="img100a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096E-EA1D-4F97-94CC-D0541C61D9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die Murphy as The Nutty Profes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4909630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B864-A47B-422B-808E-211F887CD2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nge Bob Square 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ger Fli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2" descr="sponge-bob_squarepants"/>
          <p:cNvPicPr/>
          <p:nvPr/>
        </p:nvPicPr>
        <p:blipFill>
          <a:blip r:embed="rId1"/>
          <a:stretch/>
        </p:blipFill>
        <p:spPr>
          <a:xfrm>
            <a:off x="1763640" y="1916280"/>
            <a:ext cx="322272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72DB-8FC2-42C8-923B-9DBC89AC36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hen Hillenburg Marine Biolog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nge Bob’s Cre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" descr="bio_hillenburg"/>
          <p:cNvPicPr/>
          <p:nvPr/>
        </p:nvPicPr>
        <p:blipFill>
          <a:blip r:embed="rId1"/>
          <a:stretch/>
        </p:blipFill>
        <p:spPr>
          <a:xfrm>
            <a:off x="1692360" y="1916280"/>
            <a:ext cx="32828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05ED-C0D0-4183-834D-3A871FDEAC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s: Engineer for Boeing-designing fighter j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ll Nye The Science Guy: Television show that combines science and FUN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Leave the world better than you found it. Sometimes you gotta pick up somebody else's trash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0" descr="bill_nye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1603-832A-4843-85F1-52155ED4ED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. Bruce Jack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-founder of the African-American DNA Roots Pro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9" descr="BUDNADOCaa"/>
          <p:cNvPicPr/>
          <p:nvPr/>
        </p:nvPicPr>
        <p:blipFill>
          <a:blip r:embed="rId1"/>
          <a:stretch/>
        </p:blipFill>
        <p:spPr>
          <a:xfrm>
            <a:off x="900000" y="1916280"/>
            <a:ext cx="4319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9CF6-27B9-41B1-8C66-5F3C6739CB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92000" y="1989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n-Shiung Wu, Physicist (1912 - 1997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ied sickle cell anemia. She believed that "even the most sophisticated and seemingly remote basic nuclear physics research has implications beneficial to human welfare.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8" descr="wu"/>
          <p:cNvPicPr/>
          <p:nvPr/>
        </p:nvPicPr>
        <p:blipFill>
          <a:blip r:embed="rId1"/>
          <a:stretch/>
        </p:blipFill>
        <p:spPr>
          <a:xfrm>
            <a:off x="1692360" y="1989000"/>
            <a:ext cx="3384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D7F1-9641-43EC-9E1C-A139832EEA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a McGow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cientist at 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leads a research group that is developing material to allow airplane wings to repair themselv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8" descr="story.mcgowan.jpg"/>
          <p:cNvPicPr/>
          <p:nvPr/>
        </p:nvPicPr>
        <p:blipFill>
          <a:blip r:embed="rId1"/>
          <a:stretch/>
        </p:blipFill>
        <p:spPr>
          <a:xfrm>
            <a:off x="1692360" y="1989000"/>
            <a:ext cx="3095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6:14:51Z</dcterms:created>
  <dc:creator>dudeck c</dc:creator>
  <dc:description/>
  <dc:language>en-US</dc:language>
  <cp:lastModifiedBy>Sara DeGrave</cp:lastModifiedBy>
  <dcterms:modified xsi:type="dcterms:W3CDTF">2010-09-02T00:25:28Z</dcterms:modified>
  <cp:revision>8</cp:revision>
  <dc:subject/>
  <dc:title>What does a scientist look like?</dc:title>
</cp:coreProperties>
</file>