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8578A-3C80-4BDA-A493-6439FB98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80D1-480F-4801-A068-EA4F2798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89CE4-83A2-4A4A-8F42-9DC59DD4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1CE2-E02B-4322-AB41-CE474B15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59A2-BD87-497A-AC5E-B4C9014C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8522-BE0E-41A3-8C8E-207B0494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1D48-C089-49D0-933E-070AA9F8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A3FB-D5DA-4C7E-A614-D07B7EB4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87F1-DE2B-45C6-877D-6D5A1DC7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17F6-4C43-45A3-8483-D1972523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7A6E-21A3-4FDE-91EC-CB0A6BFA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03D7-1478-4DC3-9E8E-CFD2B00F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3720-4090-4187-9F2F-7B028D2A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60E5-D208-4B91-854C-F8CF7CF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ABAF-E060-41A0-8997-40DF529A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7F01-2C1E-4D24-97FA-DB1BA449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E384-6098-4B32-B377-D5A47E98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A1235-5E27-48D4-A9CF-C0DC88DB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3436-3384-4171-8FE3-48816219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78C4-45F2-41DD-BC2F-8295322F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9683-4617-4870-8042-ACF97132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51356-7F3F-4159-928B-2EC81CB8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3567-A3FD-4D1E-8948-549F5B0B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A9E2-C396-4038-8018-4841CFBC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7015-82B7-4778-AE9F-AE51C8AF1F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ED86-4232-4602-A03A-BA43597F5B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jsc.nasa.gov/Bios/portraits/ocho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39AA-6D5F-4D12-BC99-9EAA93E1ED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55640" y="1052640"/>
            <a:ext cx="6135480" cy="34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rial"/>
              </a:rPr>
              <a:t>What does a scientist look like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69B9-E733-4006-B1A3-52BE3468A8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hen Haw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or neurone 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a motorized wheelchair, and a computerized speech-synthesiz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several theories about the nature and origins of our univer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Stephen B. Hawings"/>
          <p:cNvPicPr/>
          <p:nvPr/>
        </p:nvPicPr>
        <p:blipFill>
          <a:blip r:embed="rId1"/>
          <a:stretch/>
        </p:blipFill>
        <p:spPr>
          <a:xfrm>
            <a:off x="1763640" y="198900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0FC2-C158-467F-AC8A-89718E1C6F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len Ocho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ronaut – First Hispanic-American Woman in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Ellen Ochoa, NASA Photo JSC2002E08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989000"/>
            <a:ext cx="2879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28A2-BDE2-434F-9D9D-6EA42C29A6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bert Eins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rger’s Syndrome (a type of autis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ory of Rela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8" descr="Einstein"/>
          <p:cNvPicPr/>
          <p:nvPr/>
        </p:nvPicPr>
        <p:blipFill>
          <a:blip r:embed="rId1"/>
          <a:stretch/>
        </p:blipFill>
        <p:spPr>
          <a:xfrm>
            <a:off x="1692360" y="2060640"/>
            <a:ext cx="3384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CE1C-5F87-48A4-B598-C254F047C0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cientist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Mae Jemison, degree in chemical engineering and Doctor of Medic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African-American woman to enter sp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w up in Chicag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8" descr="Astronaut Mae Jemison"/>
          <p:cNvPicPr/>
          <p:nvPr/>
        </p:nvPicPr>
        <p:blipFill>
          <a:blip r:embed="rId1"/>
          <a:stretch/>
        </p:blipFill>
        <p:spPr>
          <a:xfrm>
            <a:off x="1692360" y="198900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F22B-FF09-4C62-AB74-13A1C7B0B9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676160" y="1981080"/>
            <a:ext cx="23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 Fossey as a young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8" descr="dianfossey"/>
          <p:cNvPicPr/>
          <p:nvPr/>
        </p:nvPicPr>
        <p:blipFill>
          <a:blip r:embed="rId1"/>
          <a:stretch/>
        </p:blipFill>
        <p:spPr>
          <a:xfrm>
            <a:off x="1692360" y="2060640"/>
            <a:ext cx="2374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B046-CAAB-46C9-B875-4058215844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 Fossey as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researcher and anthropolog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breaking work with Mountain Gorillas of Afric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gorilla"/>
          <p:cNvPicPr/>
          <p:nvPr/>
        </p:nvPicPr>
        <p:blipFill>
          <a:blip r:embed="rId1"/>
          <a:stretch/>
        </p:blipFill>
        <p:spPr>
          <a:xfrm>
            <a:off x="1692360" y="1989000"/>
            <a:ext cx="31669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B2EF-3E35-4DCF-B3D5-CA8354D56E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yone Can Be a Scientis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it be you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9" descr="question-mark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0"/>
          <p:cNvSpPr/>
          <p:nvPr/>
        </p:nvSpPr>
        <p:spPr>
          <a:xfrm>
            <a:off x="5651640" y="6381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d by: E. Kovac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72D9-68EE-416B-830A-F4175D8A38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leads you to believe that this man may be a scienti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8" descr="img100a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3D34-D931-4D66-A857-63AC5DA1B8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die Murphy as The Nutty Profes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4909630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7067-14AF-4A9A-A11D-03C87E51FE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ge Bob Square 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ger Fli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2" descr="sponge-bob_squarepants"/>
          <p:cNvPicPr/>
          <p:nvPr/>
        </p:nvPicPr>
        <p:blipFill>
          <a:blip r:embed="rId1"/>
          <a:stretch/>
        </p:blipFill>
        <p:spPr>
          <a:xfrm>
            <a:off x="1763640" y="1916280"/>
            <a:ext cx="322272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8C27-3DD3-4404-B3B0-8CF80CFF0A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hen Hillenburg Marine Biolog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ge Bob’s Cre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bio_hillenburg"/>
          <p:cNvPicPr/>
          <p:nvPr/>
        </p:nvPicPr>
        <p:blipFill>
          <a:blip r:embed="rId1"/>
          <a:stretch/>
        </p:blipFill>
        <p:spPr>
          <a:xfrm>
            <a:off x="1692360" y="1916280"/>
            <a:ext cx="3282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79C9-FA30-497C-86E9-9F99FDED4E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s: Engineer for Boeing-designing fighter j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ll Nye The Science Guy: Television show that combines science and FUN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Leave the world better than you found it. Sometimes you gotta pick up somebody else's trash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0" descr="bill_nye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9D44-6B48-41A3-B03D-E8AE1D1EFC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. Bruce Jac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-founder of the African-American DNA Roots Pro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9" descr="BUDNADOCaa"/>
          <p:cNvPicPr/>
          <p:nvPr/>
        </p:nvPicPr>
        <p:blipFill>
          <a:blip r:embed="rId1"/>
          <a:stretch/>
        </p:blipFill>
        <p:spPr>
          <a:xfrm>
            <a:off x="900000" y="1916280"/>
            <a:ext cx="431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F36C-59C4-4345-9022-AE072FF0F7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92000" y="1989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n-Shiung Wu, Physicist (1912 - 1997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ied sickle cell anemia. She believed that "even the most sophisticated and seemingly remote basic nuclear physics research has implications beneficial to human welfare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8" descr="wu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9F04-B60B-410F-9034-56F1377795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a McGow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ientist at 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leads a research group that is developing material to allow airplane wings to repair themselv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story.mcgowan.jpg"/>
          <p:cNvPicPr/>
          <p:nvPr/>
        </p:nvPicPr>
        <p:blipFill>
          <a:blip r:embed="rId1"/>
          <a:stretch/>
        </p:blipFill>
        <p:spPr>
          <a:xfrm>
            <a:off x="1692360" y="198900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6:14:51Z</dcterms:created>
  <dc:creator>dudeck c</dc:creator>
  <dc:description/>
  <dc:language>en-US</dc:language>
  <cp:lastModifiedBy>Sara DeGrave</cp:lastModifiedBy>
  <dcterms:modified xsi:type="dcterms:W3CDTF">2010-09-02T00:25:28Z</dcterms:modified>
  <cp:revision>8</cp:revision>
  <dc:subject/>
  <dc:title>What does a scientist look like?</dc:title>
</cp:coreProperties>
</file>