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F0244-9ADD-4133-AE49-2874D7A0D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B9DD6-711C-4491-95CC-7086D76C7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BB5E2-A24D-4FA5-9C68-2404B17F9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EB6B3-07D5-4852-AD83-DB6A6107F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DD622-27AE-43FA-A139-3E2DB62E4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107E7-886C-498D-A964-8C5D41B6F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F358B-149D-403D-A3E6-23FA531F9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5DA11-D22E-449D-A92D-555F53A8F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E3194-D636-4668-82DC-D94CE8D39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3D758-1A4E-40AB-ACAB-0EFF41040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AD2E4-006D-4F3F-90F5-867EC798D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7118B-E1E0-4EFD-B9CA-D104F0929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56B04-D854-48FF-B991-8D61FFAA4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4233B-0E8E-4E75-AE7E-43511B18B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EE7B5-EF67-4F8E-97C4-F5DBC79B5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4CFB3-D7D3-4809-BEB2-44CAD5E17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7CBE4-AF73-43C3-9F11-E2A88A129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BB2F7-8A63-4888-AAB4-D77D199F3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DD1F2-C85A-46C1-875C-08DA1B120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F8EFF-BB26-4C4F-ABFD-67DA9E1F3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D25CD-0B18-4491-A943-6A872EBD2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2BEC5-BA4E-4509-A0C8-E957B24C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6617E-6563-49E2-8DAA-148DD8FEC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AE078-FAA6-42B4-99CC-01D84EE1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BC0E6-A759-4CB7-9A58-589C087B156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0D081-161B-4197-80D9-43191A47CD4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jsc.nasa.gov/Bios/portraits/ochoa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62093-1950-4B67-9391-F92B74C33D0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55640" y="1052640"/>
            <a:ext cx="6135480" cy="34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00"/>
                </a:solidFill>
                <a:latin typeface="Arial"/>
              </a:rPr>
              <a:t>What does a scientist look like?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7D82C-CF23-485A-A177-BDC3A976CE7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cientis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257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ephen Hawk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tor neurone diseas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s a motorized wheelchair, and a computerized speech-synthesiz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ed several theories about the nature and origins of our univers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10" descr="Stephen B. Hawings"/>
          <p:cNvPicPr/>
          <p:nvPr/>
        </p:nvPicPr>
        <p:blipFill>
          <a:blip r:embed="rId1"/>
          <a:stretch/>
        </p:blipFill>
        <p:spPr>
          <a:xfrm>
            <a:off x="1763640" y="1989000"/>
            <a:ext cx="309564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0EC2E-2138-43A6-831E-780251981F6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cientis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257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len Ocho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ronaut – First Hispanic-American Woman in Sp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8" descr="Ellen Ochoa, NASA Photo JSC2002E0818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92360" y="1989000"/>
            <a:ext cx="287964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71FE9-7280-41E7-8083-BFCAEFAC4A9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cientis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257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bert Einste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perger’s Syndrome (a type of autis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ory of Relati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8" descr="Einstein"/>
          <p:cNvPicPr/>
          <p:nvPr/>
        </p:nvPicPr>
        <p:blipFill>
          <a:blip r:embed="rId1"/>
          <a:stretch/>
        </p:blipFill>
        <p:spPr>
          <a:xfrm>
            <a:off x="1692360" y="2060640"/>
            <a:ext cx="33843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2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898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898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898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2B66D-F5F0-4809-B274-0CFC9734765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Scientist?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257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. Mae Jemison, degree in chemical engineering and Doctor of Medicin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African-American woman to enter spac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ew up in Chicago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8" descr="Astronaut Mae Jemison"/>
          <p:cNvPicPr/>
          <p:nvPr/>
        </p:nvPicPr>
        <p:blipFill>
          <a:blip r:embed="rId1"/>
          <a:stretch/>
        </p:blipFill>
        <p:spPr>
          <a:xfrm>
            <a:off x="1692360" y="1989000"/>
            <a:ext cx="30240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9EEF3-6AFE-4E0E-AAC5-10702585F5A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cientis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676160" y="1981080"/>
            <a:ext cx="239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257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n Fossey as a young adul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8" descr="dianfossey"/>
          <p:cNvPicPr/>
          <p:nvPr/>
        </p:nvPicPr>
        <p:blipFill>
          <a:blip r:embed="rId1"/>
          <a:stretch/>
        </p:blipFill>
        <p:spPr>
          <a:xfrm>
            <a:off x="1692360" y="2060640"/>
            <a:ext cx="23749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77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98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8A628-6355-4B9D-A294-2AB1AEEB7F9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cientis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257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n Fossey as an adul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eld researcher and anthropologi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ndbreaking work with Mountain Gorillas of Afric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8" descr="gorilla"/>
          <p:cNvPicPr/>
          <p:nvPr/>
        </p:nvPicPr>
        <p:blipFill>
          <a:blip r:embed="rId1"/>
          <a:stretch/>
        </p:blipFill>
        <p:spPr>
          <a:xfrm>
            <a:off x="1692360" y="1989000"/>
            <a:ext cx="316692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72E14-1925-46EB-AF3C-22F2F11FB38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nyone Can Be a Scientist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257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ll it be you?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9" descr="question-mark"/>
          <p:cNvPicPr/>
          <p:nvPr/>
        </p:nvPicPr>
        <p:blipFill>
          <a:blip r:embed="rId1"/>
          <a:stretch/>
        </p:blipFill>
        <p:spPr>
          <a:xfrm>
            <a:off x="1692360" y="1989000"/>
            <a:ext cx="3384360" cy="4104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10"/>
          <p:cNvSpPr/>
          <p:nvPr/>
        </p:nvSpPr>
        <p:spPr>
          <a:xfrm>
            <a:off x="5651640" y="638172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eated by: E. Kovac, 20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31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98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DC442-6AD2-44A4-806D-ADD32829DB7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cientis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257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leads you to believe that this man may be a scientis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8" descr="img100a"/>
          <p:cNvPicPr/>
          <p:nvPr/>
        </p:nvPicPr>
        <p:blipFill>
          <a:blip r:embed="rId1"/>
          <a:stretch/>
        </p:blipFill>
        <p:spPr>
          <a:xfrm>
            <a:off x="1692360" y="1989000"/>
            <a:ext cx="338436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59504-A36C-4F7A-9744-5245B0C6E1C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cientis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257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ddie Murphy as The Nutty Profess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8" descr="4909630"/>
          <p:cNvPicPr/>
          <p:nvPr/>
        </p:nvPicPr>
        <p:blipFill>
          <a:blip r:embed="rId1"/>
          <a:stretch/>
        </p:blipFill>
        <p:spPr>
          <a:xfrm>
            <a:off x="1692360" y="1989000"/>
            <a:ext cx="338436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1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98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3B87E-9330-4F31-AC42-7A65C96D30A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cientis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257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onge Bob Square Pa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rger Flipp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12" descr="sponge-bob_squarepants"/>
          <p:cNvPicPr/>
          <p:nvPr/>
        </p:nvPicPr>
        <p:blipFill>
          <a:blip r:embed="rId1"/>
          <a:stretch/>
        </p:blipFill>
        <p:spPr>
          <a:xfrm>
            <a:off x="1763640" y="1916280"/>
            <a:ext cx="3222720" cy="4105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C5712-9681-46D5-87E6-935458D7041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cientis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257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ephen Hillenburg Marine Biolog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onge Bob’s Cre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8" descr="bio_hillenburg"/>
          <p:cNvPicPr/>
          <p:nvPr/>
        </p:nvPicPr>
        <p:blipFill>
          <a:blip r:embed="rId1"/>
          <a:stretch/>
        </p:blipFill>
        <p:spPr>
          <a:xfrm>
            <a:off x="1692360" y="1916280"/>
            <a:ext cx="32828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58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98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98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DBCC9-2F6E-419D-93CC-F22C039BBF6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cientis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257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ysics: Engineer for Boeing-designing fighter je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ll Nye The Science Guy: Television show that combines science and FUN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"Leave the world better than you found it. Sometimes you gotta pick up somebody else's trash."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10" descr="bill_nye"/>
          <p:cNvPicPr/>
          <p:nvPr/>
        </p:nvPicPr>
        <p:blipFill>
          <a:blip r:embed="rId1"/>
          <a:stretch/>
        </p:blipFill>
        <p:spPr>
          <a:xfrm>
            <a:off x="1692360" y="1989000"/>
            <a:ext cx="3384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FE4B6-8A7D-45FF-9059-A644BEA50CA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cientis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257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. Bruce Jack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-founder of the African-American DNA Roots Projec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9" descr="BUDNADOCaa"/>
          <p:cNvPicPr/>
          <p:nvPr/>
        </p:nvPicPr>
        <p:blipFill>
          <a:blip r:embed="rId1"/>
          <a:stretch/>
        </p:blipFill>
        <p:spPr>
          <a:xfrm>
            <a:off x="900000" y="1916280"/>
            <a:ext cx="43196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4F74B-709C-4B4E-85E7-9D8605FCAFC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cientist?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692000" y="198900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257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ien-Shiung Wu, Physicist (1912 - 1997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udied sickle cell anemia. She believed that "even the most sophisticated and seemingly remote basic nuclear physics research has implications beneficial to human welfare."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8" descr="wu"/>
          <p:cNvPicPr/>
          <p:nvPr/>
        </p:nvPicPr>
        <p:blipFill>
          <a:blip r:embed="rId1"/>
          <a:stretch/>
        </p:blipFill>
        <p:spPr>
          <a:xfrm>
            <a:off x="1692360" y="1989000"/>
            <a:ext cx="3384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87A10-8BA5-4E76-9407-670F22D3CE2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cientis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257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na McGowa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cientist at NA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 leads a research group that is developing material to allow airplane wings to repair themselv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8" descr="story.mcgowan.jpg"/>
          <p:cNvPicPr/>
          <p:nvPr/>
        </p:nvPicPr>
        <p:blipFill>
          <a:blip r:embed="rId1"/>
          <a:stretch/>
        </p:blipFill>
        <p:spPr>
          <a:xfrm>
            <a:off x="1692360" y="1989000"/>
            <a:ext cx="309564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4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98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98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98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7T16:14:51Z</dcterms:created>
  <dc:creator>dudeck c</dc:creator>
  <dc:description/>
  <dc:language>en-US</dc:language>
  <cp:lastModifiedBy>Sara DeGrave</cp:lastModifiedBy>
  <dcterms:modified xsi:type="dcterms:W3CDTF">2010-09-02T00:25:28Z</dcterms:modified>
  <cp:revision>8</cp:revision>
  <dc:subject/>
  <dc:title>What does a scientist look like?</dc:title>
</cp:coreProperties>
</file>