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E46C4-B010-41BC-93B5-C42CA170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6D60-46A4-4767-B9EF-0B59F71E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DFA0-B942-4491-A82D-B73073C0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DC627-443C-4926-A4B0-793D91F3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DD67-118C-4110-834D-7FE04952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B85D-5A9A-439C-BBBE-DA226930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C179-1070-454C-B50C-94490C67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4D80-C488-4019-9447-16368AED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6D51-6F70-4CD3-A3AA-5F26F9A5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620F-73F2-4782-A3FF-7D5D068F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ACB9-3892-4C34-A8E2-64667EB0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20B6-DF9C-4DDE-A0B5-17D9A63A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8386-F070-43E1-88CC-CB4CA3BB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31E0-68FE-4DD6-8CDB-361885A0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A269-866C-4CD7-A781-7E9006AD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9F79-827A-4EC2-BEC9-41DAD2A4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3767-FBC2-4F15-BB01-F79670C7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C061-AB25-413E-9173-065876C8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0C52-11FE-4DBF-9126-599BEAA2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9C104-FD44-4EF0-8DFA-1FD355D1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8804-41C3-485C-8659-53DB4881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C946-865E-4806-8CAA-CBA75E2B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6021-3511-4C72-93C8-8296542B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0080-AF56-493E-B6FA-7977FD61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2031-D54D-4206-BCC2-F3F9F5EAFC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89A6-90B7-42F8-B55C-0CA090FD54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jsc.nasa.gov/Bios/portraits/ocho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D325-040E-494A-AA74-2435DF1617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1052640"/>
            <a:ext cx="6135480" cy="34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rial"/>
              </a:rPr>
              <a:t>What does a scientist look like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11CD-6E41-4BFC-9BE6-505F544C7A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hen Haw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or neurone 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a motorized wheelchair, and a computerized speech-synthesiz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several theories about the nature and origins of our univer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Stephen B. Hawings"/>
          <p:cNvPicPr/>
          <p:nvPr/>
        </p:nvPicPr>
        <p:blipFill>
          <a:blip r:embed="rId1"/>
          <a:stretch/>
        </p:blipFill>
        <p:spPr>
          <a:xfrm>
            <a:off x="1763640" y="198900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F3CC-3D54-42D2-87A5-D5A74FDC2A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len Ocho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ronaut – First Hispanic-American Woman in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Ellen Ochoa, NASA Photo JSC2002E08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89000"/>
            <a:ext cx="2879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DCDD-DC66-4FA4-A330-89055009D9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bert Eins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rger’s Syndrome (a type of autis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ory of Rela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8" descr="Einstein"/>
          <p:cNvPicPr/>
          <p:nvPr/>
        </p:nvPicPr>
        <p:blipFill>
          <a:blip r:embed="rId1"/>
          <a:stretch/>
        </p:blipFill>
        <p:spPr>
          <a:xfrm>
            <a:off x="1692360" y="2060640"/>
            <a:ext cx="3384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2D70-5855-450E-977F-2E759CBED9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cientist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Mae Jemison, degree in chemical engineering and Doctor of Medic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African-American woman to enter sp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w up in Chicag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Astronaut Mae Jemison"/>
          <p:cNvPicPr/>
          <p:nvPr/>
        </p:nvPicPr>
        <p:blipFill>
          <a:blip r:embed="rId1"/>
          <a:stretch/>
        </p:blipFill>
        <p:spPr>
          <a:xfrm>
            <a:off x="1692360" y="198900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F16D-B79E-4309-AAD4-B3CF00CFFE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676160" y="1981080"/>
            <a:ext cx="23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 Fossey as a young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8" descr="dianfossey"/>
          <p:cNvPicPr/>
          <p:nvPr/>
        </p:nvPicPr>
        <p:blipFill>
          <a:blip r:embed="rId1"/>
          <a:stretch/>
        </p:blipFill>
        <p:spPr>
          <a:xfrm>
            <a:off x="1692360" y="2060640"/>
            <a:ext cx="2374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49D8-A7D7-4850-AF92-D4AA3F5D17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 Fossey as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researcher and anthropolog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breaking work with Mountain Gorillas of Afri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gorilla"/>
          <p:cNvPicPr/>
          <p:nvPr/>
        </p:nvPicPr>
        <p:blipFill>
          <a:blip r:embed="rId1"/>
          <a:stretch/>
        </p:blipFill>
        <p:spPr>
          <a:xfrm>
            <a:off x="1692360" y="1989000"/>
            <a:ext cx="31669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298A-C182-485A-AD6B-5B04A72DD5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yone Can Be a Scientis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it be you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question-mark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"/>
          <p:cNvSpPr/>
          <p:nvPr/>
        </p:nvSpPr>
        <p:spPr>
          <a:xfrm>
            <a:off x="5651640" y="6381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d by: E. Kovac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5A10-E09F-46F5-A599-B9F6F03074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leads you to believe that this man may be a scienti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img100a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5213-976C-48F7-B244-23CDC25211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die Murphy as The Nutty Prof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4909630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E569-22DB-41A5-A7E2-BF8AA4C6AB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ge Bob Square 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ger Fli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2" descr="sponge-bob_squarepants"/>
          <p:cNvPicPr/>
          <p:nvPr/>
        </p:nvPicPr>
        <p:blipFill>
          <a:blip r:embed="rId1"/>
          <a:stretch/>
        </p:blipFill>
        <p:spPr>
          <a:xfrm>
            <a:off x="1763640" y="1916280"/>
            <a:ext cx="322272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E432-F3DE-45FC-A3A4-D05636E703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hen Hillenburg Marine Biolog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ge Bob’s Cre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bio_hillenburg"/>
          <p:cNvPicPr/>
          <p:nvPr/>
        </p:nvPicPr>
        <p:blipFill>
          <a:blip r:embed="rId1"/>
          <a:stretch/>
        </p:blipFill>
        <p:spPr>
          <a:xfrm>
            <a:off x="1692360" y="1916280"/>
            <a:ext cx="3282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4218-68FD-498E-8298-9AC6C16433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s: Engineer for Boeing-designing fighter j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l Nye The Science Guy: Television show that combines science and FUN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Leave the world better than you found it. Sometimes you gotta pick up somebody else's trash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0" descr="bill_nye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A294-636D-4786-B761-1627484B87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Bruce Jac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-founder of the African-American DNA Roots Pro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9" descr="BUDNADOCaa"/>
          <p:cNvPicPr/>
          <p:nvPr/>
        </p:nvPicPr>
        <p:blipFill>
          <a:blip r:embed="rId1"/>
          <a:stretch/>
        </p:blipFill>
        <p:spPr>
          <a:xfrm>
            <a:off x="900000" y="1916280"/>
            <a:ext cx="431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4ABA-4D07-4693-A4A0-0A1307E89F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92000" y="1989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n-Shiung Wu, Physicist (1912 - 1997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d sickle cell anemia. She believed that "even the most sophisticated and seemingly remote basic nuclear physics research has implications beneficial to human welfare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wu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C380-A84F-48FF-B167-7D43037EC7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a McGow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ientist at 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leads a research group that is developing material to allow airplane wings to repair themselv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story.mcgowan.jpg"/>
          <p:cNvPicPr/>
          <p:nvPr/>
        </p:nvPicPr>
        <p:blipFill>
          <a:blip r:embed="rId1"/>
          <a:stretch/>
        </p:blipFill>
        <p:spPr>
          <a:xfrm>
            <a:off x="1692360" y="198900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6:14:51Z</dcterms:created>
  <dc:creator>dudeck c</dc:creator>
  <dc:description/>
  <dc:language>en-US</dc:language>
  <cp:lastModifiedBy>Sara DeGrave</cp:lastModifiedBy>
  <dcterms:modified xsi:type="dcterms:W3CDTF">2010-09-02T00:25:28Z</dcterms:modified>
  <cp:revision>8</cp:revision>
  <dc:subject/>
  <dc:title>What does a scientist look like?</dc:title>
</cp:coreProperties>
</file>