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3957-3046-43AB-A932-03B77C03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BADA0-9511-4404-B6D8-93A96B1F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5FE3-2E81-4906-AAF6-16A380F0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9B6A-CAD3-43EB-BC2C-B0976494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BD9B-2DE5-4ED5-B427-9873A4F1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5DC7-0B13-4711-B4C1-378DF672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88A1-18E4-4E71-A2A0-3CBE45F4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4462-D5C5-46AE-B919-7EDEC4C9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D9C8-6765-46A8-856E-427B6589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ADFF-F77A-479D-8BD7-CCA9A2B5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F837-030C-419D-8FF7-48472275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1F57-42D4-4E41-AF83-5C294269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21DD-BC3D-4DB5-8B99-48F6ED56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5E06-77DA-4670-B571-D0E23806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0A67-0FA3-40DA-B582-2DF8A76E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12CC-08B8-459C-9B54-7F49EF71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0FAB-C31B-42A9-8371-99EBC356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852D-55FD-4094-826D-7D37309F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1DFA9-D389-4B5D-A4A3-25C2E63A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98FD-88DE-43FC-BA8D-598EB73F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4C9C-4951-4360-A55E-83CCAFB5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59873-3B14-43ED-8EA1-B6A29D72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8536-47AA-4F74-8C1F-014AE7C6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E48A-767B-4960-8325-6A3EB826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7B75-07BF-48B7-9815-E8D1F81ACF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524E-A662-4CBD-AAF9-FD6506C460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jsc.nasa.gov/Bios/portraits/ocho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AF71-46CC-4475-AF3D-5D847933D2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1052640"/>
            <a:ext cx="6135480" cy="34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rial"/>
              </a:rPr>
              <a:t>What does a scientist look like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1406-7402-4137-B76D-719B99E41B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hen Haw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or neurone 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a motorized wheelchair, and a computerized speech-synthesiz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several theories about the nature and origins of our univer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Stephen B. Hawings"/>
          <p:cNvPicPr/>
          <p:nvPr/>
        </p:nvPicPr>
        <p:blipFill>
          <a:blip r:embed="rId1"/>
          <a:stretch/>
        </p:blipFill>
        <p:spPr>
          <a:xfrm>
            <a:off x="1763640" y="198900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0C23-AA12-4CEB-85F8-083EE3EF8E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len Ocho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ronaut – First Hispanic-American Woman in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Ellen Ochoa, NASA Photo JSC2002E08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89000"/>
            <a:ext cx="2879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9AED-05CE-4294-BEB7-13C8E94F83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ert Ei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rger’s Syndrome (a type of autis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ory of Rela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8" descr="Einstein"/>
          <p:cNvPicPr/>
          <p:nvPr/>
        </p:nvPicPr>
        <p:blipFill>
          <a:blip r:embed="rId1"/>
          <a:stretch/>
        </p:blipFill>
        <p:spPr>
          <a:xfrm>
            <a:off x="1692360" y="2060640"/>
            <a:ext cx="338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8F3E-3E7E-451A-BAC0-44F9E957DE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cientist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Mae Jemison, degree in chemical engineering and Doctor of Medic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African-American woman to enter sp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w up in Chicag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Astronaut Mae Jemison"/>
          <p:cNvPicPr/>
          <p:nvPr/>
        </p:nvPicPr>
        <p:blipFill>
          <a:blip r:embed="rId1"/>
          <a:stretch/>
        </p:blipFill>
        <p:spPr>
          <a:xfrm>
            <a:off x="1692360" y="198900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DF92-8484-4040-B3BF-754C90C667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676160" y="1981080"/>
            <a:ext cx="23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 Fossey as a young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8" descr="dianfossey"/>
          <p:cNvPicPr/>
          <p:nvPr/>
        </p:nvPicPr>
        <p:blipFill>
          <a:blip r:embed="rId1"/>
          <a:stretch/>
        </p:blipFill>
        <p:spPr>
          <a:xfrm>
            <a:off x="1692360" y="2060640"/>
            <a:ext cx="2374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F960-60E5-411C-A373-66A4C8D22D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 Fossey as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researcher and anthropolog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breaking work with Mountain Gorillas of Afri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gorilla"/>
          <p:cNvPicPr/>
          <p:nvPr/>
        </p:nvPicPr>
        <p:blipFill>
          <a:blip r:embed="rId1"/>
          <a:stretch/>
        </p:blipFill>
        <p:spPr>
          <a:xfrm>
            <a:off x="1692360" y="1989000"/>
            <a:ext cx="3166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CD94-ED3D-4D9B-BADE-ED76AEF717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yone Can Be a Scientis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t be you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question-mark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5651640" y="6381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d by: E. Kovac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4CFC-5C67-454C-A727-FB27F28FBA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leads you to believe that this man may be a scienti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img100a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1427-E6FC-4F48-823C-B065A67E6C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die Murphy as The Nutty Prof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4909630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7B96-97CB-4D4A-998E-03DCBF585B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ge Bob Square 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ger Fli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2" descr="sponge-bob_squarepants"/>
          <p:cNvPicPr/>
          <p:nvPr/>
        </p:nvPicPr>
        <p:blipFill>
          <a:blip r:embed="rId1"/>
          <a:stretch/>
        </p:blipFill>
        <p:spPr>
          <a:xfrm>
            <a:off x="1763640" y="1916280"/>
            <a:ext cx="322272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3910-B34A-41C7-BAEF-BF1C64E8F5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hen Hillenburg Marine Biolog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ge Bob’s Cre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bio_hillenburg"/>
          <p:cNvPicPr/>
          <p:nvPr/>
        </p:nvPicPr>
        <p:blipFill>
          <a:blip r:embed="rId1"/>
          <a:stretch/>
        </p:blipFill>
        <p:spPr>
          <a:xfrm>
            <a:off x="1692360" y="1916280"/>
            <a:ext cx="3282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69A6-CEE4-4DD7-8F28-37196916CF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s: Engineer for Boeing-designing fighter j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l Nye The Science Guy: Television show that combines science and FUN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Leave the world better than you found it. Sometimes you gotta pick up somebody else's trash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0" descr="bill_nye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6792-CAF0-41F6-819B-EDC2CFCBAC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Bruce Jac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-founder of the African-American DNA Roots Pro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9" descr="BUDNADOCaa"/>
          <p:cNvPicPr/>
          <p:nvPr/>
        </p:nvPicPr>
        <p:blipFill>
          <a:blip r:embed="rId1"/>
          <a:stretch/>
        </p:blipFill>
        <p:spPr>
          <a:xfrm>
            <a:off x="900000" y="1916280"/>
            <a:ext cx="431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412D-2314-4382-895F-760DCFB02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000" y="1989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n-Shiung Wu, Physicist (1912 - 1997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d sickle cell anemia. She believed that "even the most sophisticated and seemingly remote basic nuclear physics research has implications beneficial to human welfare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wu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6754-6CDA-4AAB-B6BC-0DD78B296D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a McGow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ientist at 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leads a research group that is developing material to allow airplane wings to repair themsel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story.mcgowan.jpg"/>
          <p:cNvPicPr/>
          <p:nvPr/>
        </p:nvPicPr>
        <p:blipFill>
          <a:blip r:embed="rId1"/>
          <a:stretch/>
        </p:blipFill>
        <p:spPr>
          <a:xfrm>
            <a:off x="1692360" y="198900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6:14:51Z</dcterms:created>
  <dc:creator>dudeck c</dc:creator>
  <dc:description/>
  <dc:language>en-US</dc:language>
  <cp:lastModifiedBy>Sara DeGrave</cp:lastModifiedBy>
  <dcterms:modified xsi:type="dcterms:W3CDTF">2010-09-02T00:25:28Z</dcterms:modified>
  <cp:revision>8</cp:revision>
  <dc:subject/>
  <dc:title>What does a scientist look like?</dc:title>
</cp:coreProperties>
</file>